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AD52-3208-41BF-9C56-98FC474D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17CD-261C-491C-8E37-D8B7B34A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E7F-A52B-4A98-B748-04833A92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BF7-EBDC-41DB-8483-FAE9E36B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BE0-D328-4B48-98F3-7E7914D8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503-5E0A-4CC2-A287-FB111F50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D3C-D467-4036-A97B-56CC410B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EB2-3FF9-4B62-936E-734D2625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CE3-9525-4548-BF66-0A0FAD1D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DF6-4590-4829-B81B-94152E08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722-3721-4B92-9D0A-3C6D5ED3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D75-6DD7-4F52-8EEC-EA0D0F4E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D10-30EF-41F6-9D5D-737E46F6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6EC-6A7F-4BA8-920B-54407EE3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9AC7-B67C-48C5-932F-E590CB3FD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ridor R-5104 to R5107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L180B2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orridor 19 may 09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7315200" y="3886200"/>
            <a:ext cx="16765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-5104 entry/exit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34 11’ 38.74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103 54’ 59.69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7"/>
          <p:cNvCxnSpPr/>
          <p:nvPr/>
        </p:nvCxnSpPr>
        <p:spPr>
          <a:xfrm flipH="1" flipV="1">
            <a:off x="7771680" y="3428640"/>
            <a:ext cx="1530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2" name="TextBox 10"/>
          <p:cNvSpPr/>
          <p:nvPr/>
        </p:nvSpPr>
        <p:spPr>
          <a:xfrm>
            <a:off x="4572000" y="4800600"/>
            <a:ext cx="1676520" cy="13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idor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FL180B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NMs 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t of corridor is within ATCAA; Sumner, Capitan, Ancho A, Beaks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1"/>
          <p:cNvCxnSpPr/>
          <p:nvPr/>
        </p:nvCxnSpPr>
        <p:spPr>
          <a:xfrm flipH="1" flipV="1">
            <a:off x="5104800" y="4419360"/>
            <a:ext cx="7668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TextBox 13"/>
          <p:cNvSpPr/>
          <p:nvPr/>
        </p:nvSpPr>
        <p:spPr>
          <a:xfrm>
            <a:off x="304920" y="5486400"/>
            <a:ext cx="16761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-5107 entry/exit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33 56’ 23.38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106 03’ 50.99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4"/>
          <p:cNvCxnSpPr/>
          <p:nvPr/>
        </p:nvCxnSpPr>
        <p:spPr>
          <a:xfrm flipH="1" flipV="1">
            <a:off x="456840" y="4495320"/>
            <a:ext cx="38160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" name="TextBox 17"/>
          <p:cNvSpPr/>
          <p:nvPr/>
        </p:nvSpPr>
        <p:spPr>
          <a:xfrm>
            <a:off x="3733920" y="2286000"/>
            <a:ext cx="1676160" cy="13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tch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cated in unpopulated areas every 20 NMs or less along the corr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18"/>
          <p:cNvCxnSpPr/>
          <p:nvPr/>
        </p:nvCxnSpPr>
        <p:spPr>
          <a:xfrm flipH="1">
            <a:off x="1447560" y="3656520"/>
            <a:ext cx="228672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20"/>
          <p:cNvCxnSpPr/>
          <p:nvPr/>
        </p:nvCxnSpPr>
        <p:spPr>
          <a:xfrm flipH="1">
            <a:off x="2666160" y="3656520"/>
            <a:ext cx="1296360" cy="1067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/>
          <p:nvPr/>
        </p:nvCxnSpPr>
        <p:spPr>
          <a:xfrm flipH="1">
            <a:off x="4038120" y="3657240"/>
            <a:ext cx="610560" cy="762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/>
          <p:nvPr/>
        </p:nvCxnSpPr>
        <p:spPr>
          <a:xfrm>
            <a:off x="5028120" y="3657240"/>
            <a:ext cx="30564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>
            <a:off x="5333760" y="3657600"/>
            <a:ext cx="99108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15"/>
          <p:cNvSpPr/>
          <p:nvPr/>
        </p:nvSpPr>
        <p:spPr>
          <a:xfrm>
            <a:off x="6477120" y="358128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1600200" y="472428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2819520" y="464832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4191120" y="434340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5410080" y="3886200"/>
            <a:ext cx="38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600200" y="1989720"/>
            <a:ext cx="182880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Ditch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#1 - 20.00 NMs from R-5104 Entry/Exi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#2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15.60 NMs from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#3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20.00 NMs from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#4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20.00 NMs from 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#5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17.90 NMs from #4; and 14.75 from R-5107 Entry/Exi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57:52Z</dcterms:created>
  <dc:creator>NickelsS</dc:creator>
  <dc:description/>
  <dc:language>en-US</dc:language>
  <cp:lastModifiedBy>NickelsS</cp:lastModifiedBy>
  <dcterms:modified xsi:type="dcterms:W3CDTF">2009-06-11T15:35:12Z</dcterms:modified>
  <cp:revision>17</cp:revision>
  <dc:subject/>
  <dc:title>Corridor R-5104 to R5107</dc:title>
</cp:coreProperties>
</file>